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93CF-C2D9-4EF8-B6CC-B0C015A03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0878-C04C-4439-9F20-B256A4A6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E5AB-03CD-409E-8C1F-C2F246F6B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B31D-AED8-41FE-AED9-7FE919AEC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52FA-EA4A-4F10-A980-BB5D7B7B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8AC9-A8D7-4823-8B07-AFDF94A2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FD5F-AF72-4641-868E-A6B030C7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48F5-2FFC-4422-9D37-5ED03BE4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8A73-8698-453A-85A5-19514869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5A47-8A90-449A-849E-0EC1DAE0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B795-9FA8-4080-B6FE-8147AA18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F85C-1CE1-493A-9D45-081B45C2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B7F9E-2389-4AB8-984C-06A951F2735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 leão e o ratin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93800" y="1619280"/>
            <a:ext cx="442584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Um leão, cansado de tanto caçar, dormia espichado debaixo da sombra boa de uma árv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Vieram uns ratinhos passear em cima dele e ele acord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dos conseguiram fugir, menos um, que o leão prendeu debaixo da p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anto o ratinho pediu e implorou que o leão desistiu de esmagá-lo e deixou que fosse emb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.Algum tempo depois o leão ficou preso n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de de uns caçad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ão conseguindo se soltar, fazia a floresta inteira tremer com seus urros de ra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isso apareceu o ratinho, e com seus dentes afiados roeu as cordas e soltou o leã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oral: Uma boa ação ganha ou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19640" y="1670040"/>
            <a:ext cx="4425840" cy="4989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219640" y="1440000"/>
            <a:ext cx="4680000" cy="4859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10:33:59Z</dcterms:created>
  <dc:creator/>
  <dc:description/>
  <dc:language>en-US</dc:language>
  <cp:lastModifiedBy/>
  <cp:revision>1</cp:revision>
  <dc:subject/>
  <dc:title/>
</cp:coreProperties>
</file>